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97274C-3600-4B72-BCEC-AF4001158F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C07D13-5694-4A7E-B4C1-16DD507F0D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51D333-BA1C-4F14-BFB7-8042495840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831BCC-52FF-41C9-832F-D1D56CA098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E1B76C-2D95-4794-9883-CC43084ED9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FC9499-A475-4E78-8E9D-924179C16D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6F2F15-FE03-4A2C-ACF4-CC058FC324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CDAFFA-D37F-4D28-A359-004E368E8D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8C322-B05C-4EE2-83CC-974473D7F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4E9E5-67D3-4552-BAC7-D07B1AA33E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7F7E3-D826-4F15-95E5-9020AACA55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86EE9-D8B6-4F1B-9EBD-56F3C742E6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73D7C-5D72-48CA-89F4-17E6C9A3CD8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flipH="1" flipV="1">
            <a:off x="7696080" y="0"/>
            <a:ext cx="1447920" cy="1447920"/>
          </a:xfrm>
          <a:prstGeom prst="rtTriangle">
            <a:avLst/>
          </a:prstGeom>
          <a:solidFill>
            <a:srgbClr val="bf2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4360" y="7617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Inner Odyssey: a travellers perspective</a:t>
            </a:r>
            <a:endParaRPr b="1" lang="en-US" sz="4000" spc="-1" strike="noStrike">
              <a:solidFill>
                <a:srgbClr val="000000"/>
              </a:solidFill>
              <a:latin typeface="Arial"/>
            </a:endParaRPr>
          </a:p>
        </p:txBody>
      </p:sp>
      <p:sp>
        <p:nvSpPr>
          <p:cNvPr id="43" name="PlaceHolder 2"/>
          <p:cNvSpPr>
            <a:spLocks noGrp="1"/>
          </p:cNvSpPr>
          <p:nvPr>
            <p:ph type="subTitle"/>
          </p:nvPr>
        </p:nvSpPr>
        <p:spPr>
          <a:xfrm>
            <a:off x="685440" y="2874960"/>
            <a:ext cx="7791480" cy="1752480"/>
          </a:xfrm>
          <a:prstGeom prst="rect">
            <a:avLst/>
          </a:prstGeom>
          <a:noFill/>
          <a:ln w="0">
            <a:noFill/>
          </a:ln>
        </p:spPr>
        <p:txBody>
          <a:bodyPr lIns="90000" rIns="90000" tIns="46800" bIns="4680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fessor Bob Garvey</a:t>
            </a:r>
            <a:endParaRPr b="0" lang="en-US" sz="3200" spc="-1" strike="noStrike">
              <a:solidFill>
                <a:srgbClr val="000000"/>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Coaching and Mentoring Research Unit</a:t>
            </a:r>
            <a:endParaRPr b="0" lang="en-US" sz="32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garvey@shu.ac.uk</a:t>
            </a:r>
            <a:endParaRPr b="0" lang="en-US" sz="2400" spc="-1" strike="noStrike">
              <a:solidFill>
                <a:srgbClr val="000000"/>
              </a:solidFill>
              <a:latin typeface="Arial"/>
            </a:endParaRPr>
          </a:p>
        </p:txBody>
      </p:sp>
      <p:sp>
        <p:nvSpPr>
          <p:cNvPr id="44" name=""/>
          <p:cNvSpPr/>
          <p:nvPr/>
        </p:nvSpPr>
        <p:spPr>
          <a:xfrm>
            <a:off x="0" y="4724280"/>
            <a:ext cx="6477120" cy="2133720"/>
          </a:xfrm>
          <a:custGeom>
            <a:avLst/>
            <a:gdLst/>
            <a:ahLst/>
            <a:rect l="l" t="t" r="r" b="b"/>
            <a:pathLst>
              <a:path w="4080" h="1344">
                <a:moveTo>
                  <a:pt x="3168" y="0"/>
                </a:moveTo>
                <a:lnTo>
                  <a:pt x="4080" y="912"/>
                </a:lnTo>
                <a:lnTo>
                  <a:pt x="4080" y="1344"/>
                </a:lnTo>
                <a:lnTo>
                  <a:pt x="0" y="1344"/>
                </a:lnTo>
                <a:lnTo>
                  <a:pt x="0" y="0"/>
                </a:lnTo>
                <a:lnTo>
                  <a:pt x="3168" y="0"/>
                </a:lnTo>
                <a:close/>
              </a:path>
            </a:pathLst>
          </a:custGeom>
          <a:solidFill>
            <a:srgbClr val="bf2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5" name="" descr=""/>
          <p:cNvPicPr/>
          <p:nvPr/>
        </p:nvPicPr>
        <p:blipFill>
          <a:blip r:embed="rId1"/>
          <a:stretch/>
        </p:blipFill>
        <p:spPr>
          <a:xfrm>
            <a:off x="380880" y="4842000"/>
            <a:ext cx="4191120" cy="1863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The Inner Odyssey</a:t>
            </a:r>
            <a:endParaRPr b="1" lang="en-US" sz="40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DTV mentor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ross functional, inter-disciplinary can work</a:t>
            </a:r>
            <a:endParaRPr b="0" lang="en-US" sz="2800" spc="-1" strike="noStrike">
              <a:solidFill>
                <a:srgbClr val="000000"/>
              </a:solidFill>
              <a:latin typeface="Arial"/>
            </a:endParaRPr>
          </a:p>
          <a:p>
            <a:pPr marL="343080" indent="-3430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 can learn from difference and diversity</a:t>
            </a:r>
            <a:endParaRPr b="0" lang="en-US" sz="2800" spc="-1" strike="noStrike">
              <a:solidFill>
                <a:srgbClr val="000000"/>
              </a:solidFill>
              <a:latin typeface="Arial"/>
            </a:endParaRPr>
          </a:p>
          <a:p>
            <a:pPr marL="343080" indent="-3430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 can support each other</a:t>
            </a:r>
            <a:endParaRPr b="0" lang="en-US" sz="2800" spc="-1" strike="noStrike">
              <a:solidFill>
                <a:srgbClr val="000000"/>
              </a:solidFill>
              <a:latin typeface="Arial"/>
            </a:endParaRPr>
          </a:p>
          <a:p>
            <a:pPr marL="343080" indent="-3430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 can make things happen if we take control of the things we can control</a:t>
            </a:r>
            <a:endParaRPr b="0" lang="en-US" sz="2800" spc="-1" strike="noStrike">
              <a:solidFill>
                <a:srgbClr val="000000"/>
              </a:solidFill>
              <a:latin typeface="Arial"/>
            </a:endParaRPr>
          </a:p>
          <a:p>
            <a:pPr marL="343080" indent="-3430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termination in the face of political chang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enefits of Mentoring</a:t>
            </a:r>
            <a:endParaRPr b="1" lang="en-US" sz="40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tee related benefits - 40%</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tor related benefits - 33%</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sational related benefits - 2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verall Benefits for Mentees</a:t>
            </a:r>
            <a:endParaRPr b="1" lang="en-US" sz="40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d performance and productivi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eer opportunity and advance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d knowledge and skill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ater confidence and well-be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verall Benefits for Mentors</a:t>
            </a:r>
            <a:endParaRPr b="1" lang="en-US" sz="40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 performa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ater satisfaction, loyalty and awarenes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knowledge and skill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 develop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verall Benefits for the Organisation</a:t>
            </a:r>
            <a:endParaRPr b="1" lang="en-US" sz="40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ff retenti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d communicati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d morale, motivati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d relationships (reduced conflic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d knowledge exchange and lear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re Conditions</a:t>
            </a:r>
            <a:endParaRPr b="1"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Voluntarism </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raining </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Ongoing support </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Matching </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Establishing reviewable groundrules </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On going review </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Whose agenda?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Evaluation and monitor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The Inner Odyssey</a:t>
            </a:r>
            <a:endParaRPr b="1" lang="en-US" sz="40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entoring promises great things for patient care, NHS performance and skills develop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entoring needn’t cost the earth</a:t>
            </a:r>
            <a:endParaRPr b="0" lang="en-US" sz="2800" spc="-1" strike="noStrike">
              <a:solidFill>
                <a:srgbClr val="000000"/>
              </a:solidFill>
              <a:latin typeface="Arial"/>
            </a:endParaRPr>
          </a:p>
          <a:p>
            <a:pPr marL="343080" indent="-3430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termination and belief in its value and importa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 can convince the cynical</a:t>
            </a:r>
            <a:endParaRPr b="0" lang="en-US" sz="2800" spc="-1" strike="noStrike">
              <a:solidFill>
                <a:srgbClr val="000000"/>
              </a:solidFill>
              <a:latin typeface="Arial"/>
            </a:endParaRPr>
          </a:p>
          <a:p>
            <a:pPr marL="343080" indent="-3430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entoring is not that hard to engage in</a:t>
            </a:r>
            <a:endParaRPr b="0" lang="en-US" sz="2800" spc="-1" strike="noStrike">
              <a:solidFill>
                <a:srgbClr val="000000"/>
              </a:solidFill>
              <a:latin typeface="Arial"/>
            </a:endParaRPr>
          </a:p>
          <a:p>
            <a:pPr marL="343080" indent="-3430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lue can be demonstrated</a:t>
            </a:r>
            <a:endParaRPr b="0" lang="en-US" sz="2800" spc="-1" strike="noStrike">
              <a:solidFill>
                <a:srgbClr val="000000"/>
              </a:solidFill>
              <a:latin typeface="Arial"/>
            </a:endParaRPr>
          </a:p>
          <a:p>
            <a:pPr marL="343080" indent="-3430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eople who work in the NHS care deeply about its progress and have authentic insight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The </a:t>
            </a:r>
            <a:r>
              <a:rPr b="1" lang="en-US" sz="4000" spc="-1" strike="noStrike">
                <a:solidFill>
                  <a:srgbClr val="000000"/>
                </a:solidFill>
                <a:latin typeface="Arial"/>
              </a:rPr>
              <a:t>Inner Odyssey</a:t>
            </a:r>
            <a:endParaRPr b="1" lang="en-US" sz="40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Try to think of what happened to you which was important and led to your sitting, sitting here in this chair, on this very day, among these people.  What happened? What brought you here?  You’ve got to know this.  That’s the starting point……’ </a:t>
            </a:r>
            <a:r>
              <a:rPr b="0" lang="en-GB" sz="1800" spc="-1" strike="noStrike">
                <a:solidFill>
                  <a:srgbClr val="000000"/>
                </a:solidFill>
                <a:latin typeface="Arial"/>
              </a:rPr>
              <a:t>(K.Kieslowski, 1993:35-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The Inner Odyssey</a:t>
            </a:r>
            <a:endParaRPr b="1"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We are all travellers on a journey of development.  There are many highs and many lows and we arrive at the beginning and nothing has changed but we understanding it all very differently. </a:t>
            </a:r>
            <a:r>
              <a:rPr b="0" lang="en-GB" sz="1800" spc="-1" strike="noStrike">
                <a:solidFill>
                  <a:srgbClr val="000000"/>
                </a:solidFill>
                <a:latin typeface="Arial"/>
              </a:rPr>
              <a:t>(after Dalo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enefits of Mentoring</a:t>
            </a:r>
            <a:endParaRPr b="1"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Unicode MS"/>
              </a:rPr>
              <a:t>Mentoring is a learning and developmental relationship between two people.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It depends on essential human qualities such as commitment, authenticity, trust, integrity and honesty.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It involves the skills of listening, questioning, challenge and support</a:t>
            </a:r>
            <a:r>
              <a:rPr b="0" i="1" lang="en-US" sz="2800" spc="-1" strike="noStrike">
                <a:solidFill>
                  <a:srgbClr val="000000"/>
                </a:solidFill>
                <a:latin typeface="Arial Unicode MS"/>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The Inner Odyssey</a:t>
            </a:r>
            <a:endParaRPr b="1" lang="en-US" sz="40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licy Research</a:t>
            </a:r>
            <a:endParaRPr b="0" lang="en-US" sz="28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ational Blood and Transplant Service</a:t>
            </a:r>
            <a:endParaRPr b="0" lang="en-US" sz="28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pert Patient Mentoring</a:t>
            </a:r>
            <a:endParaRPr b="0" lang="en-US" sz="28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pen Road</a:t>
            </a:r>
            <a:endParaRPr b="0" lang="en-US" sz="28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DTV capability build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The Inner Odyssey</a:t>
            </a:r>
            <a:endParaRPr b="1"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 framework for mentoring in NHS…</a:t>
            </a:r>
            <a:endParaRPr b="0" lang="en-US" sz="2400" spc="-1" strike="noStrike">
              <a:solidFill>
                <a:srgbClr val="000000"/>
              </a:solidFill>
              <a:latin typeface="Arial"/>
            </a:endParaRPr>
          </a:p>
          <a:p>
            <a:pPr marL="343080" indent="-34308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reat things are happening where there is the will </a:t>
            </a:r>
            <a:endParaRPr b="0" lang="en-US" sz="2400" spc="-1" strike="noStrike">
              <a:solidFill>
                <a:srgbClr val="000000"/>
              </a:solidFill>
              <a:latin typeface="Arial"/>
            </a:endParaRPr>
          </a:p>
          <a:p>
            <a:pPr marL="343080" indent="-34308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ariations are important and necessary – no one best way</a:t>
            </a:r>
            <a:endParaRPr b="0" lang="en-US" sz="2400" spc="-1" strike="noStrike">
              <a:solidFill>
                <a:srgbClr val="000000"/>
              </a:solidFill>
              <a:latin typeface="Arial"/>
            </a:endParaRPr>
          </a:p>
          <a:p>
            <a:pPr marL="343080" indent="-34308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ining and support necessary</a:t>
            </a:r>
            <a:endParaRPr b="0" lang="en-US" sz="2400" spc="-1" strike="noStrike">
              <a:solidFill>
                <a:srgbClr val="000000"/>
              </a:solidFill>
              <a:latin typeface="Arial"/>
            </a:endParaRPr>
          </a:p>
          <a:p>
            <a:pPr marL="343080" indent="-34308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oluntarism necessary</a:t>
            </a:r>
            <a:endParaRPr b="0" lang="en-US" sz="2400" spc="-1" strike="noStrike">
              <a:solidFill>
                <a:srgbClr val="000000"/>
              </a:solidFill>
              <a:latin typeface="Arial"/>
            </a:endParaRPr>
          </a:p>
          <a:p>
            <a:pPr marL="343080" indent="-34308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tching process necessary</a:t>
            </a:r>
            <a:endParaRPr b="0" lang="en-US" sz="2400" spc="-1" strike="noStrike">
              <a:solidFill>
                <a:srgbClr val="000000"/>
              </a:solidFill>
              <a:latin typeface="Arial"/>
            </a:endParaRPr>
          </a:p>
          <a:p>
            <a:pPr marL="343080" indent="-34308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utuality is a common outcome</a:t>
            </a:r>
            <a:endParaRPr b="0" lang="en-US" sz="2400" spc="-1" strike="noStrike">
              <a:solidFill>
                <a:srgbClr val="000000"/>
              </a:solidFill>
              <a:latin typeface="Arial"/>
            </a:endParaRPr>
          </a:p>
          <a:p>
            <a:pPr marL="343080" indent="-34308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roundrules are importan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The Inner Odyssey</a:t>
            </a:r>
            <a:endParaRPr b="1"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NBSDS…</a:t>
            </a:r>
            <a:endParaRPr b="0" lang="en-US" sz="28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kills focus is helpful and practical</a:t>
            </a:r>
            <a:endParaRPr b="0" lang="en-US" sz="28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pported practice is important</a:t>
            </a:r>
            <a:endParaRPr b="0" lang="en-US" sz="28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PD of the co-ordinators is important and helpful</a:t>
            </a:r>
            <a:endParaRPr b="0" lang="en-US" sz="28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aithful to the concept in the face of chang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The Inner Odyssey</a:t>
            </a:r>
            <a:endParaRPr b="1"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xpert patient mentoring…</a:t>
            </a:r>
            <a:endParaRPr b="0" lang="en-US" sz="28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wer inversion is challenging and interesting and can work</a:t>
            </a:r>
            <a:endParaRPr b="0" lang="en-US" sz="28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termination in the face of life…</a:t>
            </a:r>
            <a:endParaRPr b="0" lang="en-US" sz="28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ight at the end of a tunnel…</a:t>
            </a:r>
            <a:endParaRPr b="0" lang="en-US" sz="28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ransformational insights and surpri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The Inner Odyssey</a:t>
            </a:r>
            <a:endParaRPr b="1"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Open Road…</a:t>
            </a:r>
            <a:endParaRPr b="0" lang="en-US" sz="28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t matters and it helps</a:t>
            </a:r>
            <a:endParaRPr b="0" lang="en-US" sz="28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nerativity</a:t>
            </a:r>
            <a:endParaRPr b="0" lang="en-US" sz="28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young are our future </a:t>
            </a:r>
            <a:endParaRPr b="0" lang="en-US" sz="28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 can all learn from each oth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0T08:11:28Z</dcterms:created>
  <dc:creator>Learning &amp; IT Services</dc:creator>
  <dc:description/>
  <dc:language>en-US</dc:language>
  <cp:lastModifiedBy>jonesas</cp:lastModifiedBy>
  <dcterms:modified xsi:type="dcterms:W3CDTF">2007-10-30T13:01:17Z</dcterms:modified>
  <cp:revision>20</cp:revision>
  <dc:subject/>
  <dc:title>Returning to Learn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